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5AFC-CEE1-44FC-A7B1-2CBC468B4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CB35-9B9E-47CE-A269-FC5338C82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ric will be given ahead of time for student expectations and eval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7040-1245-4BF7-AB19-FC562291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90D-9494-4261-AB82-85311F52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4D9C-443C-4757-9A92-C2FEFDCD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3692-9005-4CE0-8D83-58DFADFE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BC7E-9991-4A12-B812-1D34018B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D61D-65B9-41F9-8368-13561885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563D-D386-41F1-9D95-A1E1AFBA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E663-7413-4811-89C1-4DF201E6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09F6-1019-4B10-BD37-456BA24A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ABC6-C020-44D3-AAF6-6A70B988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048B-E386-4E83-BC12-495F77EB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BDC6-A496-469C-A4EC-1D85A2F7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A8D4-45B4-4822-A158-50E8D334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E5E8-2EB1-4079-ABB1-651E5AC2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CFBC-5979-48A2-B6EA-7DFB9075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596E-2018-428A-B244-B8EC5D61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6044-D511-4B6A-BEB7-4A3E6432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92E-80A8-4D81-B590-C6520010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4B5-FD81-492A-A0E2-6437E900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2A0-697E-4042-B69F-05F09365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343-5089-402D-9C6A-BCA0F85B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BFE-4911-44FD-A9F1-EAFD962E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B44-30F9-4327-8CD9-2F013607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BDB-4B98-4ED3-AA62-4DDDEA2F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2684-283E-4ECD-929E-75009035C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6E08-9ACA-4F79-B77A-11B9B680A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18284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ransitioning to Digital Learning Communities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99840" y="42667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lli A. B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 today’s VISION…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si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ldre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roug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clus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in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gorou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tiviti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with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chnolo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eryd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entury Learners of Tod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2960" cy="12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5105160" cy="24004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7"/>
          <p:cNvSpPr/>
          <p:nvPr/>
        </p:nvSpPr>
        <p:spPr>
          <a:xfrm>
            <a:off x="3352680" y="49528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yperlink: 3 steps to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entury Learn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entury Educators of Toda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g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ential Questio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o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alu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G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3886200" cy="25794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3352680" y="4952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yperlink: Mercy, Mercy Me (Ecology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all ecosystems stay the same all the time? Why or why no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are autotrophs essential components of an ecosystem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would happen if you removed any organism from a food web or chain? Be specif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an ecosystem in a jar or plastic contai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thesize a food web of a particular ecosystem (i.e. freshwater, saltwater); draw the flow of energy; label the main components (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order heterotroph) of the food we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a symbiosis FOLDABLE of how organisms, including plants, interact with each other  (i.e. mutualistic relationship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Succession accordion book on a natural disaster within a given eco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stablish several jars and vary the amount of water you add to each. One may serve as a desert, pond or other forms of an ecosystem. Identify and describe what the differences in “rainfall” mean to the plant communities that develop in each jar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periment with different kind of soils. For example, try 3 different kinds of soils and water each as if it were  “desert” environment. See what differences, if an, emerg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iome Digital 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a an mini-mov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a biome to researc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3 types of ecological relationship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3 threats to the biome’s environ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a virtual food web of organism within the biome (http://www.ecokids.ca, www.gould.edu.au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 video and/or audio clips or podcasts of the bi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49:03Z</dcterms:created>
  <dc:creator>teacher</dc:creator>
  <dc:description/>
  <dc:language>en-US</dc:language>
  <cp:lastModifiedBy>College of Education</cp:lastModifiedBy>
  <dcterms:modified xsi:type="dcterms:W3CDTF">2009-08-08T16:21:46Z</dcterms:modified>
  <cp:revision>9</cp:revision>
  <dc:subject/>
  <dc:title>“Transitioning from Industrial to Digital Learning Communities”</dc:title>
</cp:coreProperties>
</file>